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068-8B3E-4017-9061-17733BA5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2D2-1F98-48F6-B396-77D5CAF7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F2C-8CAF-44EE-AD7B-ED92B451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CF6-BE76-450A-89F2-40732152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5D4-929B-4DED-8383-B9E30066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D80-0582-4DD4-B03F-5C110FD0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879-2D6F-404D-A0CF-5EA5E3D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D75-6522-4A5F-BB05-F5E6F3B2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E4D-1380-4DE8-A3DF-3E75DB19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9ED-60A5-4188-9BF5-3C6AF254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BF4-D1CD-443A-9065-0451067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0FB-7F7C-41A1-9820-9DD1093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CE7-8BDA-46D7-AC6C-7C001F43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600" y="152280"/>
            <a:ext cx="7315200" cy="77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ie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ion 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upplementary Angles – 2 or more angles whose measures add up to 18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 an example of a pair of supplementary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 an example of a set of 3 supplementary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ut supplementary angles together, then they form a 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lementary Angles – 2 or mores angles whose measures add up to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example of a pair of complementary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example of a set of 3 complementary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ut complementary angles together, then they form a 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djacent Angles – 2 angles that are next to each other; they have exactly one ray and a vertex in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example of adjacent angles that are not complementary or supplement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near Pair – 2 supplementary, adjacen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example of a linear 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the figure to answer the following True or Fal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are examples of supplementary ang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4 &amp; &lt;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2 &amp; &lt;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3, &lt;11, and &lt;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 &amp; &lt;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are examples of complementary ang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4 &amp; &lt;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2 &amp; &lt;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152280" y="7054920"/>
            <a:ext cx="7467480" cy="3003120"/>
            <a:chOff x="152280" y="7054920"/>
            <a:chExt cx="7467480" cy="3003120"/>
          </a:xfrm>
        </p:grpSpPr>
        <p:sp>
          <p:nvSpPr>
            <p:cNvPr id="43" name="Line 47"/>
            <p:cNvSpPr/>
            <p:nvPr/>
          </p:nvSpPr>
          <p:spPr>
            <a:xfrm flipV="1">
              <a:off x="152280" y="7250400"/>
              <a:ext cx="7344000" cy="11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48"/>
            <p:cNvSpPr/>
            <p:nvPr/>
          </p:nvSpPr>
          <p:spPr>
            <a:xfrm flipV="1">
              <a:off x="275400" y="8309520"/>
              <a:ext cx="7344360" cy="11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49"/>
            <p:cNvGrpSpPr/>
            <p:nvPr/>
          </p:nvGrpSpPr>
          <p:grpSpPr>
            <a:xfrm>
              <a:off x="625320" y="7054920"/>
              <a:ext cx="6680520" cy="3003120"/>
              <a:chOff x="625320" y="7054920"/>
              <a:chExt cx="6680520" cy="3003120"/>
            </a:xfrm>
          </p:grpSpPr>
          <p:sp>
            <p:nvSpPr>
              <p:cNvPr id="46" name="Line 50"/>
              <p:cNvSpPr/>
              <p:nvPr/>
            </p:nvSpPr>
            <p:spPr>
              <a:xfrm flipH="1">
                <a:off x="3597480" y="7054920"/>
                <a:ext cx="2077560" cy="27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51"/>
              <p:cNvSpPr/>
              <p:nvPr/>
            </p:nvSpPr>
            <p:spPr>
              <a:xfrm flipH="1">
                <a:off x="820080" y="8782920"/>
                <a:ext cx="966600" cy="127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52"/>
              <p:cNvSpPr/>
              <p:nvPr/>
            </p:nvSpPr>
            <p:spPr>
              <a:xfrm>
                <a:off x="6045840" y="8052480"/>
                <a:ext cx="915480" cy="9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53"/>
              <p:cNvSpPr/>
              <p:nvPr/>
            </p:nvSpPr>
            <p:spPr>
              <a:xfrm>
                <a:off x="1787400" y="7805880"/>
                <a:ext cx="822600" cy="169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54"/>
              <p:cNvSpPr/>
              <p:nvPr/>
            </p:nvSpPr>
            <p:spPr>
              <a:xfrm>
                <a:off x="2838960" y="7250400"/>
                <a:ext cx="424440" cy="260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55"/>
              <p:cNvSpPr/>
              <p:nvPr/>
            </p:nvSpPr>
            <p:spPr>
              <a:xfrm>
                <a:off x="1566360" y="906588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56"/>
              <p:cNvSpPr/>
              <p:nvPr/>
            </p:nvSpPr>
            <p:spPr>
              <a:xfrm>
                <a:off x="1921320" y="79124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57"/>
              <p:cNvSpPr/>
              <p:nvPr/>
            </p:nvSpPr>
            <p:spPr>
              <a:xfrm>
                <a:off x="1711440" y="819792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58"/>
              <p:cNvSpPr/>
              <p:nvPr/>
            </p:nvSpPr>
            <p:spPr>
              <a:xfrm>
                <a:off x="995400" y="939132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59"/>
              <p:cNvSpPr/>
              <p:nvPr/>
            </p:nvSpPr>
            <p:spPr>
              <a:xfrm>
                <a:off x="1346400" y="927792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60"/>
              <p:cNvSpPr/>
              <p:nvPr/>
            </p:nvSpPr>
            <p:spPr>
              <a:xfrm>
                <a:off x="2003400" y="813492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61"/>
              <p:cNvSpPr/>
              <p:nvPr/>
            </p:nvSpPr>
            <p:spPr>
              <a:xfrm>
                <a:off x="2148480" y="8930880"/>
                <a:ext cx="69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62"/>
              <p:cNvSpPr/>
              <p:nvPr/>
            </p:nvSpPr>
            <p:spPr>
              <a:xfrm>
                <a:off x="2399400" y="890136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63"/>
              <p:cNvSpPr/>
              <p:nvPr/>
            </p:nvSpPr>
            <p:spPr>
              <a:xfrm>
                <a:off x="2265840" y="91778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64"/>
              <p:cNvSpPr/>
              <p:nvPr/>
            </p:nvSpPr>
            <p:spPr>
              <a:xfrm>
                <a:off x="2495880" y="91238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65"/>
              <p:cNvSpPr/>
              <p:nvPr/>
            </p:nvSpPr>
            <p:spPr>
              <a:xfrm>
                <a:off x="2661840" y="780048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0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66"/>
              <p:cNvSpPr/>
              <p:nvPr/>
            </p:nvSpPr>
            <p:spPr>
              <a:xfrm>
                <a:off x="3006360" y="775296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67"/>
              <p:cNvSpPr/>
              <p:nvPr/>
            </p:nvSpPr>
            <p:spPr>
              <a:xfrm>
                <a:off x="2743920" y="805140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68"/>
              <p:cNvSpPr/>
              <p:nvPr/>
            </p:nvSpPr>
            <p:spPr>
              <a:xfrm>
                <a:off x="3036960" y="802296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69"/>
              <p:cNvSpPr/>
              <p:nvPr/>
            </p:nvSpPr>
            <p:spPr>
              <a:xfrm>
                <a:off x="2840400" y="750348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70"/>
              <p:cNvSpPr/>
              <p:nvPr/>
            </p:nvSpPr>
            <p:spPr>
              <a:xfrm>
                <a:off x="3183840" y="878400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1"/>
              <p:cNvSpPr/>
              <p:nvPr/>
            </p:nvSpPr>
            <p:spPr>
              <a:xfrm>
                <a:off x="2840400" y="91238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72"/>
              <p:cNvSpPr/>
              <p:nvPr/>
            </p:nvSpPr>
            <p:spPr>
              <a:xfrm>
                <a:off x="3263760" y="906588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73"/>
              <p:cNvSpPr/>
              <p:nvPr/>
            </p:nvSpPr>
            <p:spPr>
              <a:xfrm>
                <a:off x="5068800" y="739440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74"/>
              <p:cNvSpPr/>
              <p:nvPr/>
            </p:nvSpPr>
            <p:spPr>
              <a:xfrm>
                <a:off x="5413320" y="736344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75"/>
              <p:cNvSpPr/>
              <p:nvPr/>
            </p:nvSpPr>
            <p:spPr>
              <a:xfrm>
                <a:off x="4893840" y="764244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76"/>
              <p:cNvSpPr/>
              <p:nvPr/>
            </p:nvSpPr>
            <p:spPr>
              <a:xfrm>
                <a:off x="4118400" y="85964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77"/>
              <p:cNvSpPr/>
              <p:nvPr/>
            </p:nvSpPr>
            <p:spPr>
              <a:xfrm>
                <a:off x="4538880" y="855936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78"/>
              <p:cNvSpPr/>
              <p:nvPr/>
            </p:nvSpPr>
            <p:spPr>
              <a:xfrm>
                <a:off x="3952800" y="891900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79"/>
              <p:cNvSpPr/>
              <p:nvPr/>
            </p:nvSpPr>
            <p:spPr>
              <a:xfrm>
                <a:off x="4297320" y="884340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80"/>
              <p:cNvSpPr/>
              <p:nvPr/>
            </p:nvSpPr>
            <p:spPr>
              <a:xfrm>
                <a:off x="6441840" y="824544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1"/>
              <p:cNvSpPr/>
              <p:nvPr/>
            </p:nvSpPr>
            <p:spPr>
              <a:xfrm>
                <a:off x="6272280" y="853092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2"/>
              <p:cNvSpPr/>
              <p:nvPr/>
            </p:nvSpPr>
            <p:spPr>
              <a:xfrm>
                <a:off x="6616800" y="844092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83"/>
              <p:cNvGrpSpPr/>
              <p:nvPr/>
            </p:nvGrpSpPr>
            <p:grpSpPr>
              <a:xfrm>
                <a:off x="625320" y="8245440"/>
                <a:ext cx="195120" cy="221760"/>
                <a:chOff x="625320" y="8245440"/>
                <a:chExt cx="195120" cy="221760"/>
              </a:xfrm>
            </p:grpSpPr>
            <p:sp>
              <p:nvSpPr>
                <p:cNvPr id="80" name="Line 84"/>
                <p:cNvSpPr/>
                <p:nvPr/>
              </p:nvSpPr>
              <p:spPr>
                <a:xfrm>
                  <a:off x="625320" y="8245440"/>
                  <a:ext cx="195120" cy="11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85"/>
                <p:cNvSpPr/>
                <p:nvPr/>
              </p:nvSpPr>
              <p:spPr>
                <a:xfrm flipH="1">
                  <a:off x="625320" y="8356680"/>
                  <a:ext cx="19512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86"/>
              <p:cNvGrpSpPr/>
              <p:nvPr/>
            </p:nvGrpSpPr>
            <p:grpSpPr>
              <a:xfrm>
                <a:off x="645120" y="9304920"/>
                <a:ext cx="195840" cy="221760"/>
                <a:chOff x="645120" y="9304920"/>
                <a:chExt cx="195840" cy="221760"/>
              </a:xfrm>
            </p:grpSpPr>
            <p:sp>
              <p:nvSpPr>
                <p:cNvPr id="83" name="Line 87"/>
                <p:cNvSpPr/>
                <p:nvPr/>
              </p:nvSpPr>
              <p:spPr>
                <a:xfrm>
                  <a:off x="645480" y="9304920"/>
                  <a:ext cx="195480" cy="11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88"/>
                <p:cNvSpPr/>
                <p:nvPr/>
              </p:nvSpPr>
              <p:spPr>
                <a:xfrm flipH="1">
                  <a:off x="645120" y="9416160"/>
                  <a:ext cx="19548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Line 89"/>
              <p:cNvSpPr/>
              <p:nvPr/>
            </p:nvSpPr>
            <p:spPr>
              <a:xfrm flipV="1">
                <a:off x="2954880" y="7363440"/>
                <a:ext cx="308520" cy="59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Text Box 90"/>
          <p:cNvSpPr/>
          <p:nvPr/>
        </p:nvSpPr>
        <p:spPr>
          <a:xfrm>
            <a:off x="3886200" y="5257800"/>
            <a:ext cx="3048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are examples of adjacent ang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 &lt;4 &amp; &lt;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 &lt;8 &amp; &lt;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  &lt;22 &amp; &lt;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are examples of linear pai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  &lt;26 &amp; &lt;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  &lt;7 &amp; &lt;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3"/>
          <p:cNvSpPr/>
          <p:nvPr/>
        </p:nvSpPr>
        <p:spPr>
          <a:xfrm>
            <a:off x="228600" y="304920"/>
            <a:ext cx="7315200" cy="87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intersect, four angles are formed.  These angles have special relationships because any two adjacent angles form a linear p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hat you know about angles to find the measures of the missing angles in Exampl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m&lt;1 = 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, then m&lt;2 = _____, m&lt;3 = _____, and m&lt;4 =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ok at the angles that are NOT adjacent, such as &lt;4 and &lt;2.  These angles are across from each other when two lines intersect.  These are called vertical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at do you think has to be true about vertical 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see if you are right, let m&lt;1 = x° in Example 2.  Then find the measure of &lt;2 and &lt;3 in terms of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&lt;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&lt;3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at can you conclude about m&lt;1 and m&lt;3? 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at have you proved about vertical 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380880" y="2133720"/>
            <a:ext cx="1629720" cy="1828800"/>
            <a:chOff x="380880" y="2133720"/>
            <a:chExt cx="1629720" cy="1828800"/>
          </a:xfrm>
        </p:grpSpPr>
        <p:grpSp>
          <p:nvGrpSpPr>
            <p:cNvPr id="89" name="Group 6"/>
            <p:cNvGrpSpPr/>
            <p:nvPr/>
          </p:nvGrpSpPr>
          <p:grpSpPr>
            <a:xfrm>
              <a:off x="673920" y="2133720"/>
              <a:ext cx="1336680" cy="1828800"/>
              <a:chOff x="673920" y="2133720"/>
              <a:chExt cx="1336680" cy="1828800"/>
            </a:xfrm>
          </p:grpSpPr>
          <p:sp>
            <p:nvSpPr>
              <p:cNvPr id="90" name="Line 7"/>
              <p:cNvSpPr/>
              <p:nvPr/>
            </p:nvSpPr>
            <p:spPr>
              <a:xfrm>
                <a:off x="896760" y="2133720"/>
                <a:ext cx="82476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8"/>
              <p:cNvSpPr/>
              <p:nvPr/>
            </p:nvSpPr>
            <p:spPr>
              <a:xfrm flipH="1">
                <a:off x="673920" y="2133720"/>
                <a:ext cx="1336680" cy="18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9"/>
              <p:cNvSpPr/>
              <p:nvPr/>
            </p:nvSpPr>
            <p:spPr>
              <a:xfrm>
                <a:off x="1247760" y="2724480"/>
                <a:ext cx="23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0"/>
              <p:cNvSpPr/>
              <p:nvPr/>
            </p:nvSpPr>
            <p:spPr>
              <a:xfrm>
                <a:off x="1366560" y="2939040"/>
                <a:ext cx="23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11"/>
              <p:cNvSpPr/>
              <p:nvPr/>
            </p:nvSpPr>
            <p:spPr>
              <a:xfrm>
                <a:off x="1189800" y="3192480"/>
                <a:ext cx="23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2"/>
              <p:cNvSpPr/>
              <p:nvPr/>
            </p:nvSpPr>
            <p:spPr>
              <a:xfrm>
                <a:off x="1058040" y="2939040"/>
                <a:ext cx="23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3"/>
            <p:cNvSpPr/>
            <p:nvPr/>
          </p:nvSpPr>
          <p:spPr>
            <a:xfrm>
              <a:off x="380880" y="2133720"/>
              <a:ext cx="67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 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5562720" y="6858000"/>
            <a:ext cx="1629720" cy="1828800"/>
            <a:chOff x="5562720" y="6858000"/>
            <a:chExt cx="1629720" cy="1828800"/>
          </a:xfrm>
        </p:grpSpPr>
        <p:grpSp>
          <p:nvGrpSpPr>
            <p:cNvPr id="98" name="Group 15"/>
            <p:cNvGrpSpPr/>
            <p:nvPr/>
          </p:nvGrpSpPr>
          <p:grpSpPr>
            <a:xfrm>
              <a:off x="5856120" y="6858000"/>
              <a:ext cx="1336320" cy="1828800"/>
              <a:chOff x="5856120" y="6858000"/>
              <a:chExt cx="1336320" cy="1828800"/>
            </a:xfrm>
          </p:grpSpPr>
          <p:sp>
            <p:nvSpPr>
              <p:cNvPr id="99" name="Line 16"/>
              <p:cNvSpPr/>
              <p:nvPr/>
            </p:nvSpPr>
            <p:spPr>
              <a:xfrm>
                <a:off x="6078600" y="6858000"/>
                <a:ext cx="82440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7"/>
              <p:cNvSpPr/>
              <p:nvPr/>
            </p:nvSpPr>
            <p:spPr>
              <a:xfrm flipH="1">
                <a:off x="5856120" y="6858000"/>
                <a:ext cx="1336320" cy="18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8"/>
              <p:cNvSpPr/>
              <p:nvPr/>
            </p:nvSpPr>
            <p:spPr>
              <a:xfrm>
                <a:off x="6429600" y="7448760"/>
                <a:ext cx="23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9"/>
              <p:cNvSpPr/>
              <p:nvPr/>
            </p:nvSpPr>
            <p:spPr>
              <a:xfrm>
                <a:off x="6548040" y="7663320"/>
                <a:ext cx="23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20"/>
              <p:cNvSpPr/>
              <p:nvPr/>
            </p:nvSpPr>
            <p:spPr>
              <a:xfrm>
                <a:off x="6371640" y="7916760"/>
                <a:ext cx="23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1"/>
              <p:cNvSpPr/>
              <p:nvPr/>
            </p:nvSpPr>
            <p:spPr>
              <a:xfrm>
                <a:off x="6239880" y="7663320"/>
                <a:ext cx="23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5562720" y="6858000"/>
              <a:ext cx="67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 2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3:08:23Z</dcterms:created>
  <dc:creator> </dc:creator>
  <dc:description/>
  <dc:language>en-US</dc:language>
  <cp:lastModifiedBy>Administratr</cp:lastModifiedBy>
  <dcterms:modified xsi:type="dcterms:W3CDTF">2010-08-06T00:53:22Z</dcterms:modified>
  <cp:revision>8</cp:revision>
  <dc:subject/>
  <dc:title>Slide 1</dc:title>
</cp:coreProperties>
</file>